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0A3-FA22-407C-ADBA-E8B2B2C7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35A-BAEA-4D70-9307-3EE0D282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80442-AD4E-4067-9E4D-902006F8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DC42B-0E49-4599-A0EF-63BD1CA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3E423-6039-4BC3-912D-1872B624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D281A-5211-4358-9DCE-E7BBF1A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5661D-2F5E-40EE-8DE2-FBBA1E5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8FBE5-0CC0-44C6-9D72-87EC872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5C8D2-DC8C-4C4A-86B9-E5FEA037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11515-AA20-4A9A-864C-B3089E58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DCF0F-3406-4E5E-9623-167C7A2A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31DB2-5FE1-4996-89C7-C9BB7A35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883-FB29-4AD7-8988-3BC3D58D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D724E-3B2A-4AF5-8FDE-7DB514BE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D249A-F377-4E78-99EF-D293F480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D6CDB-0A7E-4A25-A7DB-BD278A4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A21A7-2EBA-41F4-BE24-CD547042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63CE0-5D25-4B5E-99ED-C28CBE49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DCC61-7A52-451E-94AA-29837EA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A0250-808E-42E8-B990-280B67EB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962EB-2D99-4F11-BB5A-368A000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D5161-8460-44E9-8D10-6048745B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D4297-2BD4-466B-A1E0-2EE198EC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4FC-54CE-46F4-9B1D-0D2A9BBA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70882-92ED-4F58-913D-98681924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C78E4-AB13-449C-BF9B-DEADC1FA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D1615-329B-4ACF-8353-E6E7B524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DFCB9-C939-419D-A16C-AD9ED47B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5B89A-8630-488C-9AD6-63721F93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6F5B3-5FC8-438F-B791-33DBED52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A4AB3-58A7-4669-9AA0-2B7FB899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6F519-6BC2-4A33-9952-F25E9A21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DC1BF-1093-4E34-80A8-D0DEE59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0F597-2923-4510-B142-36DCA496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9B5-1111-4D0F-A85D-F50BA40A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23010-B928-42E5-8A72-86018BA5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188E0-E0D6-46DE-A0AC-3B2CD5F8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F2EE3-0AD4-405D-A296-493B9ED2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A8980-4E4B-4D4B-BE73-62D233DF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542CB-0BE1-4C4D-9D9F-B0337C2A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A2025-9B14-4104-96A0-954A3B8F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36CBC-9A0F-42CB-89BC-71D85BA3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DD211-A308-47DE-B794-5DDBCAEE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F445F-C9DA-492C-B0A8-0C0BF4A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C9A59-3A25-4709-9FC4-4D3EAE9B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5BA2-2D11-4867-B6CD-5C7FF0CD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9D5FE-EF63-4D64-AE04-85E39EBD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A95F1-3969-4DE3-B12E-9B22426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07547-8F7B-4DD4-A345-EACD242C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DC9CD-AC41-4DD2-942B-4D6E84AA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EE98E-9C3D-48B9-8ADF-4E494D50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6219E-5AFF-4830-9857-CE591E21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E10C3-6538-404C-894E-F35636F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5365D-0782-4525-BF8A-D159DF6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8CBE1-0300-4515-B79B-4F213BA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C55F6-6B8B-483E-AF96-D809F4A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2F05-8CC7-4845-9D66-2CDB0DD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6ECF5-D5A5-4F7E-828D-7E6AD7F5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6F871-E91C-4E98-9E28-A0A33C41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13FA6-38D0-4ED8-9FE6-C43414F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4FC88-E656-41B8-810D-70F604E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07993-CBC3-4371-ABEE-A9FF91D2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03879-BC8A-40B9-92A6-A3528F6A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FDF89-FE9F-4E8A-B3DD-35A724E9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839F5-DC0F-4AB8-905A-91DEA988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C552E-FC1F-407E-BF12-731F2E7E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0220F-1DEF-49DA-8EB1-24C56576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E6D9-063E-480F-83A1-B59BB290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95D16-24EC-4BEA-8EA2-8F3F750C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CACF2-4ADA-44D0-81C8-B8E08B6F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4AFF8-88B0-4AB9-B1BC-4102AE29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46094-9A50-41DE-BE2C-5E889D26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7FF6A-5B6B-4961-A1A5-BC2AB0C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2E521-130F-48E1-8711-AE4DD55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4893C-046C-4CF4-8065-0F72CB34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1D804-5173-422E-8D04-DA9416E2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5AA71-CAC6-4974-9E9B-FE3AF30D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0CBDA-5A5F-4F9F-886E-13D0F267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5959-F97F-4FFF-8482-0A5CA6D7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AB8A2-3362-4434-948D-9B5FB1DF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69D97-0FCB-40BE-91DB-99F9D109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FE291-E365-4C04-9B56-2768A93E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6EA9C-A701-4B34-809D-32D4EA8B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621BB-6B14-49AA-B54E-1441A9D9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802B3-C4AC-4A0F-AEBA-D8296506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3817F-37BF-4F0B-85F7-F51F85D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5A561-695B-4A48-8BE5-A5E97773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73B9C-444F-4B00-B457-4A6A47C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DF2AE-491E-4147-B851-EEC6E57C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EA76-0CD6-4712-9D40-FD46500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3DC1E-732D-47AC-9EE8-E078456E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0863B-BC91-4F38-83E1-9114C39B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D8D40-0368-4D1E-B458-97C0B1D0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3471D-9684-4F21-8C70-A04F6D2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B3F68-E906-4DF8-8629-7E15E0AE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5F6A7-CB04-4194-B602-72E913C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3725D-A3A7-470F-A2ED-FA8656E6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6253A-29D8-4D61-9BD5-CE7C90C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F89CB-62A8-4C2A-86B1-E150BC05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9D8CC-DF41-464B-8F14-7BCC854F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7A57-C43B-404E-88EA-C8789C4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BD777-DD4E-4EA2-91FD-13E41FC9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66895-0AEF-4BCC-9C28-9B43E354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B572F-1554-43BD-ACBE-70C4E9BA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ADE0D1-FB2B-4E55-9A03-3B7EFB67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56070A-73AC-4F21-9A70-A3A072B9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C3A9D-4B2D-4334-9A24-87F0FC3C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C1618-0829-4354-B0BE-6405185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1F368-62D4-49ED-A125-1E87C40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1D873-275F-4045-A0B5-3A9CB81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9C873-69C5-4E73-80DD-AA06A3C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67A-D9F5-4907-B18B-1AD5A26B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402-0A29-459C-9FDE-4329E9E6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C3B5E-6D10-4B2D-8445-4C2560F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ECF35C-A4AA-4CA5-8FD6-8B4634A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C9DA0C-449A-4BAC-AF01-170C1D39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3EBC4-BE6F-40F7-8E21-ABE178F3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8917F-6F5F-4B5F-8465-237E7F4D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6C8CB-1125-49D1-B668-C616F7C1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578CB-0FFB-4B89-810B-D1BE9C4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B1690-E004-4BB5-8F8D-6EEF30A3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E4065-D399-4F22-9253-BC2F807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CA9FF-6527-40DA-95D7-651DA405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91D9-CC7F-4FF6-83D9-F9EF4EA8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A5E46-DC14-40EC-870F-FD98F98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8C773-72BB-41A1-9EE3-97509EC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9A14C-446B-4ACF-9736-5F405F1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21509-6DF6-4026-B95D-43E76EA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BA84A-0B3E-4136-B80B-CE569058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38BDD-569C-43C0-B63D-6182777B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C07B3-D46B-4E69-ACAF-C7BABFB6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2DE15-7E19-4EE2-B3BA-84B8E9D0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EC4093-8E00-43D0-9C9E-9D6CA056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5F4F7-F412-4033-8E98-346549A2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8EDE-F0A4-4618-98E4-258DC03A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FF672-08CB-4989-B065-3BFDDABC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14319-A44E-45B2-B24E-B8B9D5CB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6011B-6CD4-4160-B69C-262B340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0F77E-52B5-4EF8-9ABC-7A1B44BA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48D3A-ED19-49BC-9DCB-E5ED6953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8DCD3-5735-41EC-A125-CFD44022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99F20-106B-4089-BE38-927ECD0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D59E0-3BCF-465A-8D0F-50008CC2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E60D4-D6B8-41B4-B6D9-8D8D3B23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F1288-0D72-46E2-A31C-AA78CAF8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9FE3-5168-4115-B03F-1C57C478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0A9E3-126B-4169-BC6C-98052D10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7B108-DCD5-40CA-9275-F63A846E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EEEF5-43B2-45D8-8560-A8A80781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F3B716-3A2F-4ECA-A4AB-52745FC1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5A7D4E-5C05-4A85-B9DA-F8F79277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45C80-7B2C-4B4B-91A0-62C2CA8D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BE4CA-E73C-4468-9506-C7C1A34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BA280-CBAD-4B69-8B42-FC77401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32BCD-0325-4F77-B0EF-8C4AACC6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F368F-6BBE-4EEA-80AD-3E6115C1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EB4D-CB9A-4080-8EB7-DF39A3A6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DA426-CC99-4C99-8886-A313352B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C1BFF-FD6E-4F6F-807F-0E1803ED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8A6C4C-E2DE-44D1-B358-48739697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4B7A5-AA8B-4EE4-A815-1C0E6680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5937A-FA3C-4023-91D9-AEE46048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98583-122D-4B1A-A8B6-381EC303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EE632-F99F-444D-8116-7DBD8FEF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ED734-A3BE-4FF4-984C-B519794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B5B6F-D829-4D29-9DCB-28DA567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9D14F1-B0C5-4A05-A0CC-8D6FCAB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DB9E-9577-4973-AC8F-82FAB48E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0117B-04D1-48BC-B355-596EAE14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949F3-E2B0-42E1-90FC-5584F52B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DC881-C8CC-41D7-B69B-3DD7BACD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1E66-D217-41F1-B411-31756B1D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DFA5-F921-46CC-8E13-15C8656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5BAFB-41F2-4EEB-8A57-A8C6C85D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303E-73F8-4BF6-ADE5-8C8A9D4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CE2-0EB7-4A85-B1EC-8EBE032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7DBB-8CF0-4AEE-BD5B-B53494AC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1B48-FB07-4CA1-AC3F-7E4007B9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F27A-CC6C-4013-9F02-273718B4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31F4-2910-444C-9C97-1CC41A4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3771-04A4-420C-8751-92A28FA0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D448-6A60-40E7-AC22-60364FB9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03BF-65EC-4542-948D-84DBF404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E07D-D630-4931-B408-A6316EE6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F99A-EBC5-4967-B9EB-48C6702A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AF77-DF63-4F8B-BF6C-31A52A57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25E-4A5F-4E21-AAA9-54D3603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79DAA-84F7-40F2-949D-6A3B6EA7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5403-B109-4870-A991-62D2F0E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7227-A736-424D-8366-A00FCBC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8A38-2D0C-4401-936A-9467775A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3C69-5E88-4830-8414-D4D2E7FE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A240-5728-492A-B328-389EB41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FCCD1-3D97-42F0-9716-CD39E14A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120D-886F-47C5-B0F1-F9F92A10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573E-B1F9-4E85-935A-0A3EA908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A6738-A5B3-485B-BFBA-61C76262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536-5AB6-43E5-BC51-9EBBEF2B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5D652-2B57-4651-AA07-A43472B6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DB89-5A1E-4D6F-95B7-11ABFA5C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CBC05-E01E-4827-8E94-AD72944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2927-7602-48A0-A9A9-D1958D97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560C-0204-4483-8BAD-97D71CB6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2516-6811-4802-9E9A-6C5FEE3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7E94-D3FB-4DFB-B883-EDBC6F3F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9C62-86E6-4AF0-B690-2909ACB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B7AD6-F2A4-4EAF-8049-911BC881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7718B-DC2C-43D1-A464-2555A997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B7B-FF5F-4E2E-9FE9-F64F1E81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C4F9-EA39-4238-90C9-C1398FC2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1A386-6FDF-4EDE-BF08-DAF11801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36425-17F3-4DA4-9715-5A5E0A5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AC9C-2722-47BF-9A41-9A98403B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2CD6B-8D45-4218-9F53-C5876D1D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BDC2B-79D9-422C-ADFC-6618F519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6374-2CD9-4A33-92BE-F8E2091C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6667-B079-4140-B5DD-6F959B8B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B96D-592F-413B-A470-502E41DE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3558-2176-4AC2-B681-82F903A0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B40-1125-49EE-A426-8E0E028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F0F55-452C-4EAA-83F7-5574168A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667E-0AFA-4FFD-AD05-024A397D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C259F-055C-46EA-AB64-9308DA64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C845-E0AA-4FA4-A1D1-72E80AB3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8CA62-6571-4908-A97E-70C65D95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71DF-8151-4100-B123-87F409D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12E79-FB0B-4FCE-BE37-D96D4FDE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A7F7-3A51-476D-8AE0-6D04C6D4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403C-B76F-4528-8735-A9E22A24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2229E-1797-45A4-8621-7F983691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2AC-4453-4274-AD00-97DE10CD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580A5-8423-44F0-B752-33737650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4400-5E14-4279-A544-F2DFAD9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6CDDA-43C7-4C3A-A268-2626C8D1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9FFEF-7B2D-4F1D-AB4A-68DE9518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35D95-5D34-42C3-9071-5749960E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5C4C5-923C-4AF2-8617-386B972E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83CE2-04A3-45A5-BEDC-F12BA261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C7FA-EF63-4298-81AA-7D0C533D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1DDC5-DDC7-4D18-B48B-0110FB58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E6E78-EB31-4D76-B2D5-85E732CB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978-90F0-4F92-B9EC-1C24B048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65DCD-9561-4F69-9BB5-679F4CFC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83E4-15A9-4D72-9502-2BB5D0F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FAEDE-E382-4151-A146-B8BFA84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49F8-075B-4E49-AA0A-0A849E9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BE8E6-39AD-48C6-83D0-5F7E878F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87717-45C3-43B8-B9A5-9E4386F8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684D4-7631-464D-906A-FEEA468F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4556A-94F7-49D2-9D9B-19C91FED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92002-994A-46E3-9DC8-587A0F4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0A0F1-346E-401B-8706-BCF0B1B3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3AEE-386E-4745-BB3D-161FE611A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B03E-9E3A-4D3A-AC0F-85A787522B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9E27-CFDD-414E-A8C4-D3C8317BF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9067-0DAF-4BD9-BEDA-8BD26DD76C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5EF4-28C0-433F-AB99-D56B5C1949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022-0B6F-4B49-AA72-803E5E478C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9D84-A20F-409D-924D-C5202EFCD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F297-9EA4-45EB-AE1B-ADAF2A7592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CE37-DB46-42ED-9183-D567EB127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E64D-38B5-462F-9803-20314BF0B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5DB6-C7B9-4809-987B-77E3EA01AE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349D-A2AC-4164-851E-2ED8A43B8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D070-053A-4BBC-9413-90AB1A67A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18E-0610-46C8-8BB2-9374BAD7A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95CE-A8E6-4E38-BF9F-F3DF63A939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7CF3-5C43-4A10-85C6-A6EF2A1A09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C39-0B26-43DC-B918-B44781A88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A2D-9764-4785-8800-E9AA3727F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3251-D2B7-47F8-B7C4-6A817F6F23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44F1-3459-448D-9E72-80691EC19A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89CF-9A14-47EE-89A1-28679455AE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4C7D-D7C1-4030-B61E-B22BD907BF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97F6-4CE0-4B5B-97B6-0C9A460311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EC83-15A6-4A74-81BB-844B4F7779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357C-CFD5-413D-9BBA-4C68126DD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419F-E2A5-4ADE-ABA9-29EE2F4CF2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DB8-D722-410C-8B8A-AA0D033EB1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F7CA-51EF-4391-8FC1-31C615B5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2AA6-B1F4-4AAF-82AE-63F5418B5B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DB1-75F2-43D0-9DA6-281B3B37AB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EDE4-8DA3-4BC3-92F8-BBF803664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226B-22AF-47DD-A7AD-D81E4DA85F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9097-D9FC-481E-96D0-7D9F683DD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E3D3-1D50-443A-ADEB-BE4189375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C51B-6A01-494C-ADDD-C2ECD33A2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4684-E754-4974-9E08-F619CB38F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776E-717A-480D-9220-2F866D8859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4BCC-F829-4973-8046-C279C0E51E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875A-017F-4EB6-9719-CEAB56BA3D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B7A-D0C2-4709-9240-4FBB6D047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981000" y="3019320"/>
            <a:ext cx="71820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"/>
          <p:cNvPicPr/>
          <p:nvPr/>
        </p:nvPicPr>
        <p:blipFill>
          <a:blip r:embed="rId1"/>
          <a:stretch/>
        </p:blipFill>
        <p:spPr>
          <a:xfrm>
            <a:off x="471600" y="1971720"/>
            <a:ext cx="8200800" cy="2914560"/>
          </a:xfrm>
          <a:prstGeom prst="rect">
            <a:avLst/>
          </a:prstGeom>
          <a:ln w="0">
            <a:noFill/>
          </a:ln>
        </p:spPr>
      </p:pic>
      <p:sp>
        <p:nvSpPr>
          <p:cNvPr id="1069" name="矩形 2"/>
          <p:cNvSpPr/>
          <p:nvPr/>
        </p:nvSpPr>
        <p:spPr>
          <a:xfrm>
            <a:off x="5500800" y="2000160"/>
            <a:ext cx="135720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3"/>
          <p:cNvSpPr/>
          <p:nvPr/>
        </p:nvSpPr>
        <p:spPr>
          <a:xfrm>
            <a:off x="6072120" y="292896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>
            <a:off x="1428840" y="38577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4" descr=""/>
          <p:cNvPicPr/>
          <p:nvPr/>
        </p:nvPicPr>
        <p:blipFill>
          <a:blip r:embed="rId1"/>
          <a:stretch/>
        </p:blipFill>
        <p:spPr>
          <a:xfrm>
            <a:off x="419040" y="1014480"/>
            <a:ext cx="8305920" cy="482904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6431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1000080" y="4500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433440" y="1590840"/>
            <a:ext cx="8277120" cy="36763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16430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1000080" y="3429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442800" y="2062080"/>
            <a:ext cx="8258400" cy="273384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1000080" y="2143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229600" cy="3543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571680" y="4429080"/>
            <a:ext cx="2771640" cy="504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500040" y="5143680"/>
            <a:ext cx="8134200" cy="904680"/>
          </a:xfrm>
          <a:prstGeom prst="rect">
            <a:avLst/>
          </a:prstGeom>
          <a:ln w="0">
            <a:noFill/>
          </a:ln>
        </p:spPr>
      </p:pic>
      <p:sp>
        <p:nvSpPr>
          <p:cNvPr id="1034" name="矩形 4"/>
          <p:cNvSpPr/>
          <p:nvPr/>
        </p:nvSpPr>
        <p:spPr>
          <a:xfrm>
            <a:off x="5643720" y="1571760"/>
            <a:ext cx="1285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2500200" y="2500200"/>
            <a:ext cx="12859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7489800" y="298620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857160" y="342900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"/>
          <p:cNvSpPr/>
          <p:nvPr/>
        </p:nvSpPr>
        <p:spPr>
          <a:xfrm>
            <a:off x="6500880" y="389268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9"/>
          <p:cNvSpPr/>
          <p:nvPr/>
        </p:nvSpPr>
        <p:spPr>
          <a:xfrm>
            <a:off x="3822840" y="5178600"/>
            <a:ext cx="857160" cy="376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61880" y="1119240"/>
            <a:ext cx="8220240" cy="461952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2357280" y="2071800"/>
            <a:ext cx="157176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4429080" y="207180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2000160" y="3000240"/>
            <a:ext cx="7858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3071880" y="3000240"/>
            <a:ext cx="14288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4929120" y="3000240"/>
            <a:ext cx="7858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3071880" y="442908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"/>
          <p:cNvSpPr/>
          <p:nvPr/>
        </p:nvSpPr>
        <p:spPr>
          <a:xfrm>
            <a:off x="4857840" y="442908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9"/>
          <p:cNvSpPr/>
          <p:nvPr/>
        </p:nvSpPr>
        <p:spPr>
          <a:xfrm>
            <a:off x="928800" y="4857840"/>
            <a:ext cx="928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0"/>
          <p:cNvSpPr/>
          <p:nvPr/>
        </p:nvSpPr>
        <p:spPr>
          <a:xfrm>
            <a:off x="2000160" y="485784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"/>
          <p:cNvSpPr/>
          <p:nvPr/>
        </p:nvSpPr>
        <p:spPr>
          <a:xfrm>
            <a:off x="3225960" y="491508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85640" y="2033640"/>
            <a:ext cx="8172720" cy="279072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4143240" y="2535120"/>
            <a:ext cx="9288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5500800" y="2500200"/>
            <a:ext cx="9284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7072200" y="2500200"/>
            <a:ext cx="12146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1517760" y="391464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7358040" y="385776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1082520" y="4379760"/>
            <a:ext cx="9288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8"/>
          <p:cNvSpPr/>
          <p:nvPr/>
        </p:nvSpPr>
        <p:spPr>
          <a:xfrm>
            <a:off x="2571840" y="4357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77120" cy="601056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>
            <a:off x="4111560" y="532620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3571920" y="5811840"/>
            <a:ext cx="92880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7323120" y="628344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366840" y="1324080"/>
            <a:ext cx="8410320" cy="4209840"/>
          </a:xfrm>
          <a:prstGeom prst="rect">
            <a:avLst/>
          </a:prstGeom>
          <a:ln w="0">
            <a:noFill/>
          </a:ln>
        </p:spPr>
      </p:pic>
      <p:sp>
        <p:nvSpPr>
          <p:cNvPr id="1064" name="矩形 2"/>
          <p:cNvSpPr/>
          <p:nvPr/>
        </p:nvSpPr>
        <p:spPr>
          <a:xfrm>
            <a:off x="7143840" y="1357200"/>
            <a:ext cx="12142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3"/>
          <p:cNvSpPr/>
          <p:nvPr/>
        </p:nvSpPr>
        <p:spPr>
          <a:xfrm>
            <a:off x="4286160" y="2714760"/>
            <a:ext cx="1214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4"/>
          <p:cNvSpPr/>
          <p:nvPr/>
        </p:nvSpPr>
        <p:spPr>
          <a:xfrm>
            <a:off x="1071720" y="4143240"/>
            <a:ext cx="1714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5"/>
          <p:cNvSpPr/>
          <p:nvPr/>
        </p:nvSpPr>
        <p:spPr>
          <a:xfrm>
            <a:off x="4357800" y="507204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1:5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